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00CE-87C0-41A1-9DCB-899638F4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BBE-2228-4A45-AFC3-9CA30CCB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F6E-950B-4398-99CD-31134C59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BBB5-4CCE-43C3-AC1F-5685002E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55D8-FA45-4112-B365-2B0F4FAB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273B-CB5F-43BD-9A58-84FC1589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A478-65EB-469B-96BC-DC458DD8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1554-3BF9-4608-A22A-8DA4552D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818A-ACDB-43CD-9BF9-5B2BD956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BBB1-E8C0-4BB7-AFB5-ACBC87AA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30B5-CD3C-4675-8AAB-CA85FEBA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58A2-DAEC-4C75-8E42-5F2939FF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31B8-F65E-439A-844C-9CA8A72C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C778-3856-4723-A7BC-756EFB2D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ED2B-1391-49BC-AE4E-D4BD427F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CF02-0FEB-4DD8-9C78-A297FCD9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5EAD-7B10-401A-A694-13EFADA5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83EB-B672-43F1-A890-0550CCCD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C968-9F78-4F78-B06A-20ED63A5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3261-7BBD-45AD-A333-60D9A61A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B3B5-F41A-44FA-BFC3-A494FA18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4CDF-11B5-497E-A48C-B5C35DCC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FF9-9841-43DB-86A8-69AA36D9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EEA-2D9B-441B-9EF8-0FF1EE2C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3367-BA8A-43C2-B7DC-F776CF58516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501C-5CA4-4A64-ADD0-B1B88FDE2E8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sourceforge.net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609588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: Generic Genome Browser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ay 2005 Updat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oming soo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erkeleyDB backen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llen Day’s template system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nit test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VS Issue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emplate version on CVS HEA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Basic functionality working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any advanced features not working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ug fixes on 1.62-bugfixes branch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ecommended for end user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ill become 1.63 RSN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redi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1431360" y="1828800"/>
            <a:ext cx="288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CSH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cott C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mon Ilyuschenk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Lalitha Krishn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70640" y="4114800"/>
            <a:ext cx="152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UC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Allen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7720" y="5938920"/>
            <a:ext cx="1523880" cy="536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71520" y="5973840"/>
            <a:ext cx="43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stellar"/>
              </a:rPr>
              <a:t>http://www.gmod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81880" y="1828800"/>
            <a:ext cx="22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Else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Colis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Logg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905" t="28856" r="2830" b="13655"/>
          <a:stretch/>
        </p:blipFill>
        <p:spPr>
          <a:xfrm>
            <a:off x="838080" y="1824120"/>
            <a:ext cx="7751880" cy="3738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Recent Improvemen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rder of sections reorganiz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roup tracks by category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xpand/contract categorie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lace plugins in menubar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nternal change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Libraries refactored; easier to manage plugins, upload tracks, DAS tracks, improved Chado interface, GFF3 loading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ollapsible Section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410" t="14877" r="3433" b="5502"/>
          <a:stretch/>
        </p:blipFill>
        <p:spPr>
          <a:xfrm>
            <a:off x="228600" y="1609560"/>
            <a:ext cx="8915400" cy="5248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ollapsible Section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1410" t="14877" r="3433" b="5502"/>
          <a:stretch/>
        </p:blipFill>
        <p:spPr>
          <a:xfrm>
            <a:off x="304920" y="1654200"/>
            <a:ext cx="8839080" cy="5203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roupable Track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386" t="14818" r="3447" b="5556"/>
          <a:stretch/>
        </p:blipFill>
        <p:spPr>
          <a:xfrm>
            <a:off x="228600" y="1523880"/>
            <a:ext cx="8763120" cy="5160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roupable Track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386" t="14818" r="3447" b="5556"/>
          <a:stretch/>
        </p:blipFill>
        <p:spPr>
          <a:xfrm>
            <a:off x="228600" y="1523880"/>
            <a:ext cx="8763120" cy="516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Menuable Plugin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386" t="14818" r="3447" b="5556"/>
          <a:stretch/>
        </p:blipFill>
        <p:spPr>
          <a:xfrm>
            <a:off x="304920" y="1600200"/>
            <a:ext cx="8839080" cy="5207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666880" y="2057400"/>
            <a:ext cx="2286000" cy="533520"/>
          </a:xfrm>
          <a:prstGeom prst="ellipse">
            <a:avLst/>
          </a:prstGeom>
          <a:noFill/>
          <a:ln w="12600">
            <a:solidFill>
              <a:srgbClr val="d57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More Glyph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557" t="14814" r="3644" b="3701"/>
          <a:stretch/>
        </p:blipFill>
        <p:spPr>
          <a:xfrm>
            <a:off x="533520" y="1523880"/>
            <a:ext cx="8381880" cy="5194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 </cp:lastModifiedBy>
  <cp:lastPrinted>1998-10-28T21:29:29Z</cp:lastPrinted>
  <dcterms:modified xsi:type="dcterms:W3CDTF">2005-05-16T18:46:05Z</dcterms:modified>
  <cp:revision>560</cp:revision>
  <dc:subject/>
  <dc:title>Training</dc:title>
</cp:coreProperties>
</file>